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483D-717D-4E63-AEC9-193261ED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9A5F-FBB5-4A18-B145-BE0399AF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5B4E-5806-4BF9-81F6-8E268835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52B8-6901-49E7-89C3-48926A7A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633C-69E5-461B-A903-A0040EF1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583B-EF5D-4534-910A-CA9B8285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3B21-0A96-47F3-8B1D-438BA5DC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C50-DE2C-4E17-B372-9F53752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D477-A84E-4F75-8568-13286D87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0D10-263B-4C0A-AF91-00D74699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731-F352-4425-A8A9-2B99A98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988E-4D73-4624-812B-86377FD3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4A4E-5F1D-49F1-98F2-546BF55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5DD-0C37-4638-AE0C-E56C83FB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B2D4-2214-429C-8AF2-5C8DE34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EFA7-423D-4875-A9B6-5C302D66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635A-9B2A-4ED4-A32A-7FC32CB2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1927-96D7-44AD-9781-0A539E2D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A329-BE9E-4505-8C39-A890B7EF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6162-E1D8-45FD-9C98-AFAF709D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C9D2-E414-4D35-87A0-7770DE5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1214-39B5-4418-AA2F-41E2741B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BC1A-AED4-4CA8-9D1A-5A727B3E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224A-0B14-4175-A97E-C7D03B1D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C04-D4AE-498F-B0CB-756A512B2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44FF-5C03-43F3-9D6E-E539A0E24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ula 2 (11/08/2004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eliminares sobre jogos, estratégia e racionalida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do a racionalidade Fal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terminação dos desejos e crenças (impossibilidade de hierarquização) quando a evidência é insuficiente para justificar a ação.Na impossibilidade de determinação, a carga explicativa é transferida para algo denominado “suficientemente bom”. As vezes, “nada é mais racional do que abdicar da razão” (Pas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escolher o que acreditam ser o melhor para realizar os seus dese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nças irracionais (acreditar que os fatos são como a pessoa gostaria que fosse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blemas para a Ação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esse Com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manho do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ci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ficácia marginal da ação individual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vis-a-v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seu c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rona 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free-rid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enefícios não dependem da particip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aídas para os problemas de ação coletiv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ir o tamanho do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pel da coer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entivos Sel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imetria entre os inte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ragmentar a 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al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ir os custos da particip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ros Problem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vo Instituciona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jetória de Depen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gos estratégic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fronto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head-to-he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ntre dois participa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UA vs. URSS; negociação de salários entre a GM e Sindicato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relações impessoais no mercado com milhares de participantes podem ser melhor entendidas através de interações estratégicas entre poucos (dois jogadores) jogos sepa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romissos mútuos (ex. dono da casa e pedrei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Privadas (ex. fazendeiro e banquei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movimentos dos jogadores são seqüenciais ou simultâne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distinção é importante porque estes dois tipos de jogos requerem diferentes tipos de pensamento inter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üênci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u fizer isso, como meu oponente reagirá? Será que tem alguma vantagem eu agir primeiro ou depoi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tâne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obrir o que o meu oponente fará no mesmo instante que eu agir”. Assim, a estratégia dos jogadores é apenas a ação exercida naquela específica ocasi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á que os interesses dos jogadores são totalmente conflitantes, ou existiria algum interesse comum? (Conflito vs. Cooper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de soma-zero (interesses conflita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de soma-positiva (não significa que os interesses sejam completamente alinhados). Os jogadores podem cooperar para produzir uma grande torta, mas podem conflitar na disputa pelo maior peda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s de formação de alianças e coaliz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jogo é jogado em apenas um episódio ou de forma repetida? Contra o mesmo opon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ne-shot g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redo e a surpresa são importantes componentes de uma boa estraté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gos de repeti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utação adquire um papel fundamental bem como inform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bilidades de cooperação aumenta bem como de punição dos comportamentos desviantes (futebol americano seleciona jogadores na ordem inversa; ciclistas cooperam até o momento final quando a cooperação colapsa; governos de coalizão permanecem coesos até as eleições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á que os jogadores têm igualdade informacional ou informação comple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diferentes jogadores têm desigualdade informacional, a manipulação destas informações torna-se um jo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é estratégico para os jogadores mais informados revelar e quando não é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velar apenas o que for trazer vantagem para mim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confiar nestes tipos de informação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? Que tipo de evidência pode ser considerada crí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s jogadores menos informados podem criar situações que revelam de forma crível suas intençõ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Screeni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ex. jogo do namoro da aula pass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regras do jogo são fixas ou podem ser altera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que dizer das regras que são difíceis de serem alteradas como as constituiçõ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as regras podem ser mudadas, muitas vezes o momento mais importante é o pré-jogo, quando as regras do jogo estão sendo defin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que certas regras são fáceis de serem alteradas e outras n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ndo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acordos orientados para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per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ão capazes de ser cumprid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forceb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 todos os atores agirem imediatamente e na presença de todos é mais fácil de acordos serem cumpridos. Mas acordos desta natureza são ra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is as condições de observação do cumprimento do acor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uma terceira parte que zele pelo cumprimento do acor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ioria das ações dos atores no cumprimento ou não dos acordos não são diretamente observáveis e nem tão pouco 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forceble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isso são chamados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-cooperativ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resultado destes jogos não-cooperativos, entretanto, pode ser a cooperação desde que seja vantajoso para as partes especialmente em interações repeti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cooperação será o resultado de jogos não-cooperativos apenas se for do interesse dos participantes individuais continuar seguindo as ações previamente prescri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rutura de um jogo estratégic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atégias disponíveis para todos os jog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o de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ele fizer “A” eu faço “X”, mas se ele fizer “B” eu faço “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ompens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yof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valor associado a cada um dos possíveis resultados do jogo) e Recompensa esperada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xpected payof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 probabilidade média esperada do resultado do jo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cionalidade (conhecimento dos seus próprios interesses, cálculo consistente sobre qual das ações possíveis pode servir melhor estes interesses e a pressuposição de que maximizará a utilidade decorrente destas açõ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hecimento geral das regras do j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líbrio. Não significa que as coisas não mudam nem significa que as coisas estão funcionando da melhor manei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40:59Z</dcterms:created>
  <dc:creator>Carlos Pereira</dc:creator>
  <dc:description/>
  <dc:language>en-US</dc:language>
  <cp:lastModifiedBy>Carlos Pereira</cp:lastModifiedBy>
  <dcterms:modified xsi:type="dcterms:W3CDTF">2004-08-11T16:17:35Z</dcterms:modified>
  <cp:revision>9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7414435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Curso Teoria dos Jogos</vt:lpwstr>
  </property>
</Properties>
</file>